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FB7-924F-4A15-994E-B88B7307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9EE-9DB0-4030-82A8-F4AE24D3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EE9-3FF4-43AB-8F02-326EB76B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425-0839-42F5-AAF6-47B45150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E742-0F42-4A64-9D18-1A646EEA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F9CE-15AD-4862-AF2A-B46E97BC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868B-ACF7-447F-B437-8A020DB7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BE70-CAFB-4186-B0B3-6C6B7BF0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D3B1-8EFA-4E40-8250-288DF62B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C6CA-F2E9-4912-8254-B57F5581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2F6F-1991-4318-A9B5-C1414EC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471-27FF-4333-9132-689832FC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26CE-B937-4C65-BA59-DC000F94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9136-65A0-45F2-AF55-0F78053D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A50E-0B90-40C2-BABA-5D490955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0ED5-49C5-49DA-897C-8C7592A4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3B17-49C6-4A2E-B315-E56BD4D4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746-949C-4498-A451-DD0E4BF1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A4C-6490-465F-8782-A87BBBF2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58D-5E06-4F3E-A9E6-EBD1CD7C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552-DE58-4BD4-8A60-91D902F0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7EA-F2D0-4282-9259-47B7E0F5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ED8-3DC7-404C-A6CA-72640C93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559-7B88-4D72-8F78-B791533F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17BE-C347-4863-B868-B6BE61C7D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BC8C-592E-4749-82DD-2102AC570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560" y="3573000"/>
            <a:ext cx="784404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Тема: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ccecff"/>
                </a:solidFill>
                <a:latin typeface="Arial"/>
              </a:rPr>
              <a:t>Компьютерные игры, как средство развития математических представлений у детей дошкольного возраста.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156360" y="55440"/>
            <a:ext cx="2592360" cy="1717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216072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новно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989000"/>
            <a:ext cx="2448000" cy="396108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Анализ проблем, формулировка за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бор критериев оценивания результ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Систематизировать план конкретных 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1989000"/>
            <a:ext cx="2448000" cy="38880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омогает в анализе, наблюдает, контролир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Формирует необходимые умения и 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1989000"/>
            <a:ext cx="2880000" cy="3961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ланирование действий по разрешени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агматически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844640"/>
            <a:ext cx="2232000" cy="417672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полняют исследование.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0360" y="1989000"/>
            <a:ext cx="2448000" cy="403236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Наблюдает, консультирует, контролиру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16360" y="1700280"/>
            <a:ext cx="3024000" cy="4321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оиск информации, которая обрабатывается, осмысливается и представл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ительны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844640"/>
            <a:ext cx="144720" cy="71640"/>
          </a:xfrm>
          <a:custGeom>
            <a:avLst/>
            <a:gdLst>
              <a:gd name="textAreaLeft" fmla="*/ 4320 w 144720"/>
              <a:gd name="textAreaRight" fmla="*/ 140400 w 144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43524" h="21600">
                <a:moveTo>
                  <a:pt x="0" y="0"/>
                </a:moveTo>
                <a:lnTo>
                  <a:pt x="43524" y="0"/>
                </a:lnTo>
                <a:lnTo>
                  <a:pt x="43524" y="21600"/>
                </a:lnTo>
                <a:lnTo>
                  <a:pt x="0" y="21600"/>
                </a:lnTo>
                <a:close/>
              </a:path>
              <a:path fill="lightenLess" w="43524" h="21600">
                <a:moveTo>
                  <a:pt x="0" y="0"/>
                </a:moveTo>
                <a:lnTo>
                  <a:pt x="43524" y="0"/>
                </a:lnTo>
                <a:lnTo>
                  <a:pt x="42124" y="1400"/>
                </a:lnTo>
                <a:lnTo>
                  <a:pt x="1400" y="1400"/>
                </a:lnTo>
                <a:close/>
              </a:path>
              <a:path fill="darken" w="43524" h="21600">
                <a:moveTo>
                  <a:pt x="43524" y="0"/>
                </a:moveTo>
                <a:lnTo>
                  <a:pt x="43524" y="21600"/>
                </a:lnTo>
                <a:lnTo>
                  <a:pt x="42124" y="20200"/>
                </a:lnTo>
                <a:lnTo>
                  <a:pt x="42124" y="1400"/>
                </a:lnTo>
                <a:close/>
              </a:path>
              <a:path fill="darkenLess" w="43524" h="21600">
                <a:moveTo>
                  <a:pt x="43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124" y="20200"/>
                </a:lnTo>
                <a:close/>
              </a:path>
              <a:path fill="lighten" w="43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989000"/>
            <a:ext cx="2376360" cy="396108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Оформляют проект, изготавливают проду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Анализируют выполненный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ясняют причины успехов, неу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2060640"/>
            <a:ext cx="2232000" cy="396072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Наблюдает, совет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омогает в обеспечении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1916280"/>
            <a:ext cx="3025440" cy="4105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Анализ хода и результатов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тоговы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1989000"/>
            <a:ext cx="2592360" cy="396108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щищают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2133720"/>
            <a:ext cx="2592360" cy="381636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Участвует в коллективном анализе и оценке результ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48000" y="1916280"/>
            <a:ext cx="2519280" cy="3817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редставление готового продук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просы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ое значение играют компьютерные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ие компьютерные  игры необходимо использовать в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ие математические представления необходимо развивать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 необходимо организовывать деятельность детей для развития математических представлений посредством компьютерных игр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ие компьютерные игры способствуют развитию математических представлений детей дошкольного возраст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368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частники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дагоги и студенты педагогических учебных заве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249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Цель проект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ть знания педагогам и студентам о компьютерных играх как средстве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вития математических представлений у детей дошкольного возраст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516720" y="260280"/>
            <a:ext cx="2376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формировать представления педагогов и студентов  о компьютерных играх, как средстве развития математических представлений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учить использовать средст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вития математических представлений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казать практическое значение использования компьютерных игр, как средства развития математических представлений у детей дошкольного возраст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22320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держание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 данном проекте рассматриваются проблемы использования компьютерных игр для развития математических представлений. Значение использования компьютерных игр, развитие математических представлений детей дошкольного возраста, также применение компьютерных игр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лан проведения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ать знания педагогам и студентам  о компьютерных играх, как средстве развития математических представлений у детей до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651640" y="4005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тапы работы над проектом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ициирующ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ополагающ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гма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люч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того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нициирующи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2421000"/>
            <a:ext cx="3672000" cy="3168720"/>
          </a:xfrm>
          <a:prstGeom prst="leftRightArrow">
            <a:avLst>
              <a:gd name="adj1" fmla="val 50000"/>
              <a:gd name="adj2" fmla="val 23069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Определени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Формулирование вопро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2708280"/>
            <a:ext cx="2089080" cy="32418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Определение темы, уточнение ц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бор рабочей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16720" y="2708280"/>
            <a:ext cx="1942920" cy="32418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Мотивирует учащихся, объясняет цели, наблю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Ставит цели и задачи обучения, развития,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9:33:28Z</dcterms:created>
  <dc:creator>Студент</dc:creator>
  <dc:description/>
  <dc:language>en-US</dc:language>
  <cp:lastModifiedBy>Наташа</cp:lastModifiedBy>
  <dcterms:modified xsi:type="dcterms:W3CDTF">2009-05-22T15:00:18Z</dcterms:modified>
  <cp:revision>9</cp:revision>
  <dc:subject/>
  <dc:title>Тема: Компьютерные игры, как средство развития математических представлений у детей дошкольного возраста. </dc:title>
</cp:coreProperties>
</file>